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1050-0695-41DD-A57C-A233D7BC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5182-FB7D-4372-AC99-BBAB5047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1BAA-80EB-42C2-97D0-47CDDEDF7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FD24-241C-41DC-8BC8-C9C6056E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E186-07EC-4801-85C4-F71FFDDC8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D1E9-E38F-40B4-AC13-3862D893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7921-30CA-4781-B518-792F604A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0938-2D86-40D5-9548-BD60970F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DE2B-1BB1-4F2F-90DC-AF3CCA82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0F00-48B1-4D29-94FE-E1E4C121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5F43-94BC-4843-9CB1-AACE0564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5849-E65B-436E-8342-41D9B37C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A440-9FDE-47AB-8BD0-FAB2AA47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F6D7-5859-49F1-8934-4AC07326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C8A5-D7E2-46F9-AC1C-02209DF7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A748-49D5-4DF5-BDCC-45495F7F6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DC1C-97DA-4FF6-A655-756E23DCB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6C03C-EA6B-4A6A-A078-083D2E1EA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47929-DEFF-410C-9231-F4973513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F4FED-11A7-46C1-B7E0-FA77B99B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33EA8-6E64-4772-8451-2B945BE4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5CAA6-54DE-41A7-852E-ADB29E74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4B30-7FAB-49D8-870D-AD505698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16A27-E43D-4800-994F-D699BF42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2155C-ECB8-46B0-BEA6-9F0F1C84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D2409-9223-4C96-9C8F-5F274A1C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A922E-D2CE-4298-ADE7-40E707F0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581AD-23C0-4759-8EC3-6677F607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BDA1A-CB5B-4C11-BE2D-4C112DF6F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F3EDF-C31F-4966-B88A-7AAAF6EE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F7ADF-7DB3-4012-913D-33F47088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DFF1D-1AAC-4054-BB31-9EDAE5D6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9DED6-3C1C-402B-B030-F8C3CCA3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7A48-D8D1-42CC-B03C-45F81AD9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B5035-AF58-4275-B994-F6475062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E832D-DCA1-4A02-B9ED-E6A822C5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FB60F-4365-4ED0-8B52-B1B230D6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EEA96-5990-453E-B785-397A483A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08ACE-8449-4604-939A-F161065D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E1628-E065-431B-B659-F5CFA4F6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EE947-16B2-466A-8A62-01804DFB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B578C-669A-479F-A6C8-37835E856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728C5-4AA5-48E4-959E-6198E90A1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3F3E8-8AB7-4112-841B-B0A49BA8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954A-4C1F-4BFF-B060-CBCAD1DF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F2715-67C1-4BC1-9CEB-0C40A710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76616-DE70-4673-8480-88F2A929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DFCC2-F282-42EC-80A4-F2919298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1EAAF-67E6-4522-B610-DD7F61D9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0F3E5-2F07-4795-BB43-E26C32DE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FAE93-3AA9-41FB-AE6D-E1CF27B0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0746E-129B-40A2-B00F-6E926829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DF931-7A3E-48E9-805F-C2C5A1E3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E7F40-4C29-4E75-AC58-027A3E2D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F1380-A25D-4220-9E66-2F7B6F29E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9942-C4AE-45E4-8AA5-4E2A4381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81052-E961-4C2E-870E-DCBADE563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9EDE-0051-4F77-B51D-91AC047C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2CE9-1224-420F-90A2-4ECA9EA2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69EF-C207-40A7-9823-86597902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4211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f7c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24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f1e1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1365-41C4-4FEE-B037-1C3C9EDDA6F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4211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f7c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24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f1e1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50C0-D794-4861-A651-60CED2F93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4211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f7c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24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f1e1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F020-EEC2-4F2F-B7BD-313F7CEB701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4211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f7c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24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f1e1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F691-A755-4602-8535-F51264740AE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4211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f7c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24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f1e1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2866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195B-A4A6-4797-9321-8D298E0887D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google.com/imgres?imgurl=http://webeuler.com/blog/wp-content/uploads/2009/09/language.jpg&amp;imgrefurl=http://webeuler.com/blog/%3Fp%3D79&amp;usg=__RXrCEfzVzg41VCNJzggH2pV_p1c=&amp;h=398&amp;w=279&amp;sz=31&amp;hl=en&amp;start=8&amp;sig2=onuM3YtlO0piEpLaDy6U-A&amp;itbs=1&amp;tbnid=uTt2jMasXedV_M:&amp;tbnh=124&amp;tbnw=87&amp;prev=/images%3Fq%3Dlanguage%26hl%3Den%26gbv%3D2%26tbs%3Disch:1&amp;ei=Muv5S9HVOI6oMdPz6IMI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colorincolorado.org/" TargetMode="External"/><Relationship Id="rId3" Type="http://schemas.openxmlformats.org/officeDocument/2006/relationships/hyperlink" Target="http://honolulu.hawaii.edu/intranet/committees/FacDevCom/guidebk/teachtip/motiv.htm" TargetMode="External"/><Relationship Id="rId4" Type="http://schemas.openxmlformats.org/officeDocument/2006/relationships/hyperlink" Target="http://iteslj.org/Techniques/Houston-TeachingIdeas.html" TargetMode="External"/><Relationship Id="rId5" Type="http://schemas.openxmlformats.org/officeDocument/2006/relationships/hyperlink" Target="http://www.nabe.org/" TargetMode="External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sdisbury.com/wordpress/wp-content/uploads/2009/06/motivation.gif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blog.mangolanguages.com/wp-content/uploads/2009/11/bigstockphoto_Think_Alphabet_3712600-300x300.jp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s://payment.brown.edu/C20460_ustores/web/images/store_11/community.gif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facebook.com/photo.php?pid=30256166&amp;op=15&amp;o=global&amp;view=global&amp;subj=612385332&amp;id=1534414318" TargetMode="External"/><Relationship Id="rId3" Type="http://schemas.openxmlformats.org/officeDocument/2006/relationships/image" Target="../media/image19.jpeg"/><Relationship Id="rId4" Type="http://schemas.openxmlformats.org/officeDocument/2006/relationships/hyperlink" Target="http://www.facebook.com/photo.php?op=17&amp;view=global&amp;subj=612385332&amp;pid=7883334&amp;id=612385332" TargetMode="External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google.com/imgres?imgurl=http://booktrustadmin.kentlyons.com/images/image7748.jpg&amp;imgrefurl=http://www.childrenslaureate.org.uk/show/feature/sharing-picture-books-leaflet&amp;usg=__ZMz5QnoDKjMmWV_ykQsj-gNWxFE=&amp;h=1364&amp;w=1400&amp;sz=330&amp;hl=en&amp;start=37&amp;sig2=3skpHzGaj3OOhGHt5R1afA&amp;um=1&amp;itbs=1&amp;tbnid=16rAULkI2Zd2ZM:&amp;tbnh=146&amp;tbnw=150&amp;prev=/images%3Fq%3Dtips%2Bfor%2Bteachers%26start%3D20%26um%3D1%26hl%3Den%26sa%3DN%26rlz%3D1T4ADRA_enUS350US350%26ndsp%3D20%26tbs%3Disch:1&amp;ei=ut75S4vvO4OMMbn3qZEF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Title 1" descr=""/>
          <p:cNvPicPr/>
          <p:nvPr/>
        </p:nvPicPr>
        <p:blipFill>
          <a:blip r:embed="rId1"/>
          <a:stretch/>
        </p:blipFill>
        <p:spPr>
          <a:xfrm>
            <a:off x="298440" y="1139760"/>
            <a:ext cx="7188120" cy="1481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371600" y="364320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f271c"/>
                </a:solidFill>
                <a:latin typeface="Calibri"/>
              </a:rPr>
              <a:t>Daiva Berzinskas</a:t>
            </a:r>
            <a:endParaRPr b="0" lang="en-US" sz="2700" spc="-1" strike="noStrike">
              <a:solidFill>
                <a:srgbClr val="4f271c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f271c"/>
                </a:solidFill>
                <a:latin typeface="Calibri"/>
              </a:rPr>
              <a:t>ELS Language Centers</a:t>
            </a:r>
            <a:endParaRPr b="0" lang="en-US" sz="2700" spc="-1" strike="noStrike">
              <a:solidFill>
                <a:srgbClr val="4f271c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f271c"/>
                </a:solidFill>
                <a:latin typeface="Calibri"/>
              </a:rPr>
              <a:t>Email: daivaberz@gmail.com</a:t>
            </a:r>
            <a:endParaRPr b="0" lang="en-US" sz="27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207" name="Picture 2" descr="http://zif.spz.tu-darmstadt.de/jg-01-1/images/gary3d.gif"/>
          <p:cNvPicPr/>
          <p:nvPr/>
        </p:nvPicPr>
        <p:blipFill>
          <a:blip r:embed="rId2"/>
          <a:stretch/>
        </p:blipFill>
        <p:spPr>
          <a:xfrm>
            <a:off x="5532480" y="4191120"/>
            <a:ext cx="3611520" cy="23619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http://t2.gstatic.com/images?q=tbn:uTt2jMasXedV_M:http://webeuler.com/blog/wp-content/uploads/2009/09/languag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2895480"/>
            <a:ext cx="1600200" cy="210024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209" name="Picture 6" descr="http://www.celestecraig.us/language%20arts.gif"/>
          <p:cNvPicPr/>
          <p:nvPr/>
        </p:nvPicPr>
        <p:blipFill>
          <a:blip r:embed="rId5"/>
          <a:stretch/>
        </p:blipFill>
        <p:spPr>
          <a:xfrm>
            <a:off x="7162920" y="1219320"/>
            <a:ext cx="1676160" cy="233820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6840" y="1599840"/>
            <a:ext cx="4876920" cy="38862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f271c"/>
                </a:solidFill>
                <a:latin typeface="Calibri"/>
              </a:rPr>
              <a:t>Colorin’ Colorado                                                                   </a:t>
            </a:r>
            <a:r>
              <a:rPr b="1" lang="en-US" sz="1700" spc="-1" strike="noStrike" u="sng">
                <a:solidFill>
                  <a:srgbClr val="8dc765"/>
                </a:solidFill>
                <a:uFillTx/>
                <a:latin typeface="Calibri"/>
                <a:hlinkClick r:id="rId2"/>
              </a:rPr>
              <a:t>http://www.colorincolorado.org/</a:t>
            </a:r>
            <a:endParaRPr b="0" lang="en-US" sz="17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f271c"/>
                </a:solidFill>
                <a:latin typeface="Calibri"/>
              </a:rPr>
              <a:t>Ideas for Motivating Students </a:t>
            </a:r>
            <a:r>
              <a:rPr b="1" lang="en-US" sz="1700" spc="-1" strike="noStrike" u="sng">
                <a:solidFill>
                  <a:srgbClr val="8dc765"/>
                </a:solidFill>
                <a:uFillTx/>
                <a:latin typeface="Calibri"/>
                <a:hlinkClick r:id="rId3"/>
              </a:rPr>
              <a:t>http://honolulu.hawaii.edu/intranet/committees/FacDevCom/guidebk/teachtip/motiv.htm</a:t>
            </a:r>
            <a:endParaRPr b="0" lang="en-US" sz="17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f271c"/>
                </a:solidFill>
                <a:latin typeface="Calibri"/>
              </a:rPr>
              <a:t>75 ESL Teaching Ideas                                                   </a:t>
            </a:r>
            <a:r>
              <a:rPr b="1" lang="en-US" sz="1700" spc="-1" strike="noStrike" u="sng">
                <a:solidFill>
                  <a:srgbClr val="8dc765"/>
                </a:solidFill>
                <a:uFillTx/>
                <a:latin typeface="Calibri"/>
                <a:hlinkClick r:id="rId4"/>
              </a:rPr>
              <a:t>http://iteslj.org/Techniques/Houston-TeachingIdeas.html</a:t>
            </a:r>
            <a:endParaRPr b="0" lang="en-US" sz="17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f271c"/>
                </a:solidFill>
                <a:latin typeface="Calibri"/>
              </a:rPr>
              <a:t>National Association of Bilingual Education (NABE)                                    </a:t>
            </a:r>
            <a:r>
              <a:rPr b="1" lang="en-US" sz="1700" spc="-1" strike="noStrike" u="sng">
                <a:solidFill>
                  <a:srgbClr val="8dc765"/>
                </a:solidFill>
                <a:uFillTx/>
                <a:latin typeface="Calibri"/>
                <a:hlinkClick r:id="rId5"/>
              </a:rPr>
              <a:t>http://www.nabe.org/</a:t>
            </a:r>
            <a:endParaRPr b="0" lang="en-US" sz="17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f271c"/>
                </a:solidFill>
                <a:latin typeface="Calibri"/>
              </a:rPr>
              <a:t>TESL Website Index                                         </a:t>
            </a:r>
            <a:r>
              <a:rPr b="0" lang="en-US" sz="1700" spc="-1" strike="noStrike">
                <a:solidFill>
                  <a:srgbClr val="4f271c"/>
                </a:solidFill>
                <a:latin typeface="Calibri"/>
              </a:rPr>
              <a:t>http://www.tefltesl.freeonline.co.uk/teaching.htm</a:t>
            </a:r>
            <a:endParaRPr b="0" lang="en-US" sz="17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240" name="Picture 2" descr="http://homepage.ntlworld.com/gary.sturt/classd2.jpg"/>
          <p:cNvPicPr/>
          <p:nvPr/>
        </p:nvPicPr>
        <p:blipFill>
          <a:blip r:embed="rId6"/>
          <a:stretch/>
        </p:blipFill>
        <p:spPr>
          <a:xfrm>
            <a:off x="5867280" y="1600200"/>
            <a:ext cx="2819520" cy="3506760"/>
          </a:xfrm>
          <a:prstGeom prst="rect">
            <a:avLst/>
          </a:prstGeom>
          <a:ln w="9360">
            <a:solidFill>
              <a:srgbClr val="3b1d1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f271c"/>
                </a:solidFill>
                <a:latin typeface="Calibri"/>
              </a:rPr>
              <a:t>First Language Acquisition</a:t>
            </a: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. Retrieved on May 23, 2010, </a:t>
            </a: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from </a:t>
            </a: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http://www.edumaldives.com/downloads/First_Lan</a:t>
            </a: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guage_Acquisition.pdf</a:t>
            </a:r>
            <a:endParaRPr b="0" lang="en-US" sz="14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Clark, Beverly (n.d). </a:t>
            </a:r>
            <a:r>
              <a:rPr b="0" i="1" lang="en-US" sz="1400" spc="-1" strike="noStrike">
                <a:solidFill>
                  <a:srgbClr val="4f271c"/>
                </a:solidFill>
                <a:latin typeface="Calibri"/>
              </a:rPr>
              <a:t>First and Second Language Acquisition </a:t>
            </a:r>
            <a:r>
              <a:rPr b="0" i="1" lang="en-US" sz="1400" spc="-1" strike="noStrike">
                <a:solidFill>
                  <a:srgbClr val="4f271c"/>
                </a:solidFill>
                <a:latin typeface="Calibri"/>
              </a:rPr>
              <a:t>	</a:t>
            </a:r>
            <a:r>
              <a:rPr b="0" i="1" lang="en-US" sz="1400" spc="-1" strike="noStrike">
                <a:solidFill>
                  <a:srgbClr val="4f271c"/>
                </a:solidFill>
                <a:latin typeface="Calibri"/>
              </a:rPr>
              <a:t>in Early Childhool</a:t>
            </a: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. Retrieved on May 23, 2010 from </a:t>
            </a: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http://ceep.crc.uiuc.edu/pubs/katzsym/clark-b.pdf</a:t>
            </a:r>
            <a:endParaRPr b="0" lang="en-US" sz="14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f271c"/>
                </a:solidFill>
                <a:latin typeface="Calibri"/>
              </a:rPr>
              <a:t>Gass, S.M. &amp; Selinker, L. (2008). </a:t>
            </a:r>
            <a:r>
              <a:rPr b="0" i="1" lang="en-US" sz="1300" spc="-1" strike="noStrike">
                <a:solidFill>
                  <a:srgbClr val="4f271c"/>
                </a:solidFill>
                <a:latin typeface="Calibri"/>
              </a:rPr>
              <a:t>Second language acquisition: An </a:t>
            </a:r>
            <a:r>
              <a:rPr b="0" i="1" lang="en-US" sz="1300" spc="-1" strike="noStrike">
                <a:solidFill>
                  <a:srgbClr val="4f271c"/>
                </a:solidFill>
                <a:latin typeface="Calibri"/>
              </a:rPr>
              <a:t>	</a:t>
            </a:r>
            <a:r>
              <a:rPr b="0" i="1" lang="en-US" sz="1300" spc="-1" strike="noStrike">
                <a:solidFill>
                  <a:srgbClr val="4f271c"/>
                </a:solidFill>
                <a:latin typeface="Calibri"/>
              </a:rPr>
              <a:t>introductory course </a:t>
            </a:r>
            <a:r>
              <a:rPr b="0" lang="en-US" sz="1300" spc="-1" strike="noStrike">
                <a:solidFill>
                  <a:srgbClr val="4f271c"/>
                </a:solidFill>
                <a:latin typeface="Calibri"/>
              </a:rPr>
              <a:t>(3</a:t>
            </a:r>
            <a:r>
              <a:rPr b="0" lang="en-US" sz="1300" spc="-1" strike="noStrike" baseline="30000">
                <a:solidFill>
                  <a:srgbClr val="4f271c"/>
                </a:solidFill>
                <a:latin typeface="Calibri"/>
              </a:rPr>
              <a:t>rd</a:t>
            </a:r>
            <a:r>
              <a:rPr b="0" lang="en-US" sz="1300" spc="-1" strike="noStrike">
                <a:solidFill>
                  <a:srgbClr val="4f271c"/>
                </a:solidFill>
                <a:latin typeface="Calibri"/>
              </a:rPr>
              <a:t> ed.). New York: Routledge.</a:t>
            </a:r>
            <a:endParaRPr b="0" lang="en-US" sz="13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Haynes, Judi (2005).  </a:t>
            </a:r>
            <a:r>
              <a:rPr b="0" i="1" lang="en-US" sz="1400" spc="-1" strike="noStrike">
                <a:solidFill>
                  <a:srgbClr val="4f271c"/>
                </a:solidFill>
                <a:latin typeface="Calibri"/>
              </a:rPr>
              <a:t>Stages of Second Language </a:t>
            </a:r>
            <a:r>
              <a:rPr b="0" i="1" lang="en-US" sz="1400" spc="-1" strike="noStrike">
                <a:solidFill>
                  <a:srgbClr val="4f271c"/>
                </a:solidFill>
                <a:latin typeface="Calibri"/>
              </a:rPr>
              <a:t>	</a:t>
            </a:r>
            <a:r>
              <a:rPr b="0" i="1" lang="en-US" sz="1400" spc="-1" strike="noStrike">
                <a:solidFill>
                  <a:srgbClr val="4f271c"/>
                </a:solidFill>
                <a:latin typeface="Calibri"/>
              </a:rPr>
              <a:t>Acquisition</a:t>
            </a: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. Retrieved on May 24,  2010, from </a:t>
            </a: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http://www.everythingesl.net/inservices/language_</a:t>
            </a: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stages.php</a:t>
            </a:r>
            <a:endParaRPr b="0" lang="en-US" sz="14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Walqui, Aida . (2000). </a:t>
            </a:r>
            <a:r>
              <a:rPr b="0" i="1" lang="en-US" sz="1400" spc="-1" strike="noStrike">
                <a:solidFill>
                  <a:srgbClr val="4f271c"/>
                </a:solidFill>
                <a:latin typeface="Calibri"/>
              </a:rPr>
              <a:t>Contextual Factors in Second </a:t>
            </a:r>
            <a:r>
              <a:rPr b="0" i="1" lang="en-US" sz="1400" spc="-1" strike="noStrike">
                <a:solidFill>
                  <a:srgbClr val="4f271c"/>
                </a:solidFill>
                <a:latin typeface="Calibri"/>
              </a:rPr>
              <a:t>	</a:t>
            </a:r>
            <a:r>
              <a:rPr b="0" i="1" lang="en-US" sz="1400" spc="-1" strike="noStrike">
                <a:solidFill>
                  <a:srgbClr val="4f271c"/>
                </a:solidFill>
                <a:latin typeface="Calibri"/>
              </a:rPr>
              <a:t>Language Acquisition. </a:t>
            </a: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Eric Digest.  Retrieved on </a:t>
            </a: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May 23, 2010 , from  </a:t>
            </a: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http://www.cal.org/resources/digest/digest_pdfs/0</a:t>
            </a: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005-contextual-walqui.pdf</a:t>
            </a:r>
            <a:endParaRPr b="0" lang="en-US" sz="14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5867280" y="4457880"/>
            <a:ext cx="327672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MTSU HONOR STAT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assignment/assessment was solely written by me. In no way have I plagiarized (represented the work of another as my own) or otherwise violated the copyright laws and academic conventions of fair use. I know that violations of this policy may result in my being dismissed from Middle Tennessee State University and / or appropriate legal action being taken against 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aiva Berzinsk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5-23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4" descr="http://t1.gstatic.com/images?q=tbn:EU2p5rrkeSp6ZM:http://69.175.14.181/catalog/images/cat_book.jpg"/>
          <p:cNvPicPr/>
          <p:nvPr/>
        </p:nvPicPr>
        <p:blipFill>
          <a:blip r:embed="rId2"/>
          <a:stretch/>
        </p:blipFill>
        <p:spPr>
          <a:xfrm>
            <a:off x="5883120" y="1676520"/>
            <a:ext cx="2136960" cy="19047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554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456840" y="1599840"/>
            <a:ext cx="6248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d47"/>
                </a:solidFill>
                <a:latin typeface="Calibri"/>
              </a:rPr>
              <a:t>Behaviorist view: </a:t>
            </a: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language learning is a result of imitation and an automatic habit.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d47"/>
                </a:solidFill>
                <a:latin typeface="Calibri"/>
              </a:rPr>
              <a:t>LAD: </a:t>
            </a: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Theory suggested by Noam Chomsky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4211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271c"/>
                </a:solidFill>
                <a:latin typeface="Calibri"/>
              </a:rPr>
              <a:t>Language learner participant in creating language, not imitating..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4211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271c"/>
                </a:solidFill>
                <a:latin typeface="Calibri"/>
              </a:rPr>
              <a:t>All children are born with a LAD, which helps children produce and understand language when developed at an early age.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212" name="Picture 2" descr="http://www.cupkorea.co.kr/lang/l_languagenadmind.gif"/>
          <p:cNvPicPr/>
          <p:nvPr/>
        </p:nvPicPr>
        <p:blipFill>
          <a:blip r:embed="rId2"/>
          <a:stretch/>
        </p:blipFill>
        <p:spPr>
          <a:xfrm>
            <a:off x="6324480" y="1905120"/>
            <a:ext cx="2695680" cy="26953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456840" y="1599840"/>
            <a:ext cx="5181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f271c"/>
                </a:solidFill>
                <a:latin typeface="Calibri"/>
              </a:rPr>
              <a:t>Language acquisition and processing  develop in the left hemisphere of the brain (Persylvian region).</a:t>
            </a:r>
            <a:endParaRPr b="0" lang="en-US" sz="25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f271c"/>
                </a:solidFill>
                <a:latin typeface="Calibri"/>
              </a:rPr>
              <a:t>Ages 2 -12 – The critical period for natural second language acquisition to take place in children .</a:t>
            </a:r>
            <a:endParaRPr b="0" lang="en-US" sz="25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f271c"/>
                </a:solidFill>
                <a:latin typeface="Calibri"/>
              </a:rPr>
              <a:t>After age 12 brain enters period of “plasticity” making SLA difficult.</a:t>
            </a:r>
            <a:endParaRPr b="0" lang="en-US" sz="25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6095880" y="2286000"/>
            <a:ext cx="2479680" cy="327672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554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45720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58d01"/>
                </a:solidFill>
                <a:latin typeface="Calibri"/>
              </a:rPr>
              <a:t>3 Contextual Factors:</a:t>
            </a:r>
            <a:endParaRPr b="0" lang="en-US" sz="2700" spc="-1" strike="noStrike">
              <a:solidFill>
                <a:srgbClr val="4f271c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4211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71c"/>
                </a:solidFill>
                <a:latin typeface="Calibri"/>
              </a:rPr>
              <a:t>Language: </a:t>
            </a:r>
            <a:endParaRPr b="0" lang="en-US" sz="2400" spc="-1" strike="noStrike">
              <a:solidFill>
                <a:srgbClr val="4f271c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5f7c2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Calibri"/>
              </a:rPr>
              <a:t>Linguistic distance between L1 and L2</a:t>
            </a:r>
            <a:endParaRPr b="0" lang="en-US" sz="2000" spc="-1" strike="noStrike">
              <a:solidFill>
                <a:srgbClr val="4f271c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5f7c2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Calibri"/>
              </a:rPr>
              <a:t>Proficiency in L1 and knowledge of L2</a:t>
            </a:r>
            <a:endParaRPr b="0" lang="en-US" sz="2000" spc="-1" strike="noStrike">
              <a:solidFill>
                <a:srgbClr val="4f271c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5f7c2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Calibri"/>
              </a:rPr>
              <a:t>Dialect  native language</a:t>
            </a:r>
            <a:endParaRPr b="0" lang="en-US" sz="2000" spc="-1" strike="noStrike">
              <a:solidFill>
                <a:srgbClr val="4f271c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4211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71c"/>
                </a:solidFill>
                <a:latin typeface="Calibri"/>
              </a:rPr>
              <a:t>The Learner:</a:t>
            </a:r>
            <a:endParaRPr b="0" lang="en-US" sz="2400" spc="-1" strike="noStrike">
              <a:solidFill>
                <a:srgbClr val="4f271c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5f7c2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Calibri"/>
              </a:rPr>
              <a:t>Presence of peer pressure</a:t>
            </a:r>
            <a:endParaRPr b="0" lang="en-US" sz="2000" spc="-1" strike="noStrike">
              <a:solidFill>
                <a:srgbClr val="4f271c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5f7c2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Calibri"/>
              </a:rPr>
              <a:t>Role models</a:t>
            </a:r>
            <a:endParaRPr b="0" lang="en-US" sz="2000" spc="-1" strike="noStrike">
              <a:solidFill>
                <a:srgbClr val="4f271c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5f7c2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Calibri"/>
              </a:rPr>
              <a:t>Level of home support</a:t>
            </a:r>
            <a:endParaRPr b="0" lang="en-US" sz="2000" spc="-1" strike="noStrike">
              <a:solidFill>
                <a:srgbClr val="4f271c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4211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71c"/>
                </a:solidFill>
                <a:latin typeface="Calibri"/>
              </a:rPr>
              <a:t>The Learning Process</a:t>
            </a:r>
            <a:endParaRPr b="0" lang="en-US" sz="2400" spc="-1" strike="noStrike">
              <a:solidFill>
                <a:srgbClr val="4f271c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5f7c2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Calibri"/>
              </a:rPr>
              <a:t>Different learning styles of students should be considered</a:t>
            </a:r>
            <a:endParaRPr b="0" lang="en-US" sz="2000" spc="-1" strike="noStrike">
              <a:solidFill>
                <a:srgbClr val="4f271c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5f7c2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Calibri"/>
              </a:rPr>
              <a:t>Intrinsic motivation</a:t>
            </a:r>
            <a:endParaRPr b="0" lang="en-US" sz="2000" spc="-1" strike="noStrike">
              <a:solidFill>
                <a:srgbClr val="4f271c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5f7c2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Calibri"/>
              </a:rPr>
              <a:t>Quality of classroom interaction</a:t>
            </a:r>
            <a:endParaRPr b="0" lang="en-US" sz="2000" spc="-1" strike="noStrike">
              <a:solidFill>
                <a:srgbClr val="4f271c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5f7c2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f271c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5f7c2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f271c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5f7c2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218" name="Picture 2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3600" y="2362320"/>
            <a:ext cx="2408400" cy="243828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Title 1" descr=""/>
          <p:cNvPicPr/>
          <p:nvPr/>
        </p:nvPicPr>
        <p:blipFill>
          <a:blip r:embed="rId1"/>
          <a:stretch/>
        </p:blipFill>
        <p:spPr>
          <a:xfrm>
            <a:off x="237960" y="-6480"/>
            <a:ext cx="8790120" cy="15541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456840" y="2209320"/>
            <a:ext cx="762012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Innatist Approach: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4211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271c"/>
                </a:solidFill>
                <a:latin typeface="Calibri"/>
              </a:rPr>
              <a:t>Result of Chomsky’s work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4211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271c"/>
                </a:solidFill>
                <a:latin typeface="Calibri"/>
              </a:rPr>
              <a:t>Language is a biological process driven by LAD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4211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271c"/>
                </a:solidFill>
                <a:latin typeface="Calibri"/>
              </a:rPr>
              <a:t>Universal Grammar is shared by all human beings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Interactionist Approach: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4211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271c"/>
                </a:solidFill>
                <a:latin typeface="Calibri"/>
              </a:rPr>
              <a:t>Emphasizes learner interaction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4211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271c"/>
                </a:solidFill>
                <a:latin typeface="Calibri"/>
              </a:rPr>
              <a:t>Social implications in language learning 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4211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4211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221" name="Picture 2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1320" y="1066680"/>
            <a:ext cx="2438280" cy="207828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0200"/>
            <a:ext cx="4648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f271c"/>
                </a:solidFill>
                <a:latin typeface="Calibri"/>
              </a:rPr>
              <a:t>Humans are “hard-wired” to learn language.</a:t>
            </a:r>
            <a:endParaRPr b="0" lang="en-US" sz="27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f271c"/>
                </a:solidFill>
                <a:latin typeface="Calibri"/>
              </a:rPr>
              <a:t>Learners play an active role in the process.</a:t>
            </a:r>
            <a:endParaRPr b="0" lang="en-US" sz="27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f271c"/>
                </a:solidFill>
                <a:latin typeface="Calibri"/>
              </a:rPr>
              <a:t>Learner simply needs language samples to get started since Universal Grammar is present.</a:t>
            </a:r>
            <a:endParaRPr b="0" lang="en-US" sz="27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224" name="Picture 2" descr="http://www.bichakjian.com/bernard/wp-content/uploads/2007/07/chomsky.jpg"/>
          <p:cNvPicPr/>
          <p:nvPr/>
        </p:nvPicPr>
        <p:blipFill>
          <a:blip r:embed="rId2"/>
          <a:stretch/>
        </p:blipFill>
        <p:spPr>
          <a:xfrm>
            <a:off x="5715000" y="1447920"/>
            <a:ext cx="1704960" cy="29430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4"/>
          <p:cNvSpPr/>
          <p:nvPr/>
        </p:nvSpPr>
        <p:spPr>
          <a:xfrm>
            <a:off x="380880" y="4648320"/>
            <a:ext cx="6934320" cy="2562840"/>
          </a:xfrm>
          <a:prstGeom prst="rect">
            <a:avLst/>
          </a:prstGeom>
          <a:solidFill>
            <a:srgbClr val="ff0066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271c"/>
                </a:solidFill>
                <a:latin typeface="Calibri"/>
              </a:rPr>
              <a:t>In the classroom: </a:t>
            </a:r>
            <a:r>
              <a:rPr b="0" lang="en-US" sz="1800" spc="-1" strike="noStrike">
                <a:solidFill>
                  <a:srgbClr val="4f271c"/>
                </a:solidFill>
                <a:latin typeface="Calibri"/>
              </a:rPr>
              <a:t>Students create grammar by testing hypothes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271c"/>
                </a:solidFill>
                <a:latin typeface="Calibri"/>
              </a:rPr>
              <a:t>RULE: </a:t>
            </a:r>
            <a:r>
              <a:rPr b="0" lang="en-US" sz="1800" spc="-1" strike="noStrike">
                <a:solidFill>
                  <a:srgbClr val="4f271c"/>
                </a:solidFill>
                <a:latin typeface="Calibri"/>
              </a:rPr>
              <a:t>past tense verbs are created by adding -</a:t>
            </a:r>
            <a:r>
              <a:rPr b="0" i="1" lang="en-US" sz="1800" spc="-1" strike="noStrike">
                <a:solidFill>
                  <a:srgbClr val="4f271c"/>
                </a:solidFill>
                <a:latin typeface="Calibri"/>
              </a:rPr>
              <a:t>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4f27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71c"/>
                </a:solidFill>
                <a:latin typeface="Calibri"/>
              </a:rPr>
              <a:t>According to this when learning </a:t>
            </a:r>
            <a:r>
              <a:rPr b="0" i="1" lang="en-US" sz="1800" spc="-1" strike="noStrike">
                <a:solidFill>
                  <a:srgbClr val="4f271c"/>
                </a:solidFill>
                <a:latin typeface="Calibri"/>
              </a:rPr>
              <a:t>to go</a:t>
            </a:r>
            <a:r>
              <a:rPr b="0" lang="en-US" sz="1800" spc="-1" strike="noStrike">
                <a:solidFill>
                  <a:srgbClr val="4f271c"/>
                </a:solidFill>
                <a:latin typeface="Calibri"/>
              </a:rPr>
              <a:t>: the student wil say:"</a:t>
            </a:r>
            <a:r>
              <a:rPr b="0" i="1" lang="en-US" sz="1800" spc="-1" strike="noStrike">
                <a:solidFill>
                  <a:srgbClr val="4f271c"/>
                </a:solidFill>
                <a:latin typeface="Calibri"/>
              </a:rPr>
              <a:t>goed</a:t>
            </a:r>
            <a:r>
              <a:rPr b="0" lang="en-US" sz="1800" spc="-1" strike="noStrike">
                <a:solidFill>
                  <a:srgbClr val="4f271c"/>
                </a:solidFill>
                <a:latin typeface="Calibri"/>
              </a:rPr>
              <a:t>"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4f27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71c"/>
                </a:solidFill>
                <a:latin typeface="Calibri"/>
              </a:rPr>
              <a:t>Eventually, student will revise this hypothesis to accommodate exception of the past tense of irregular verbs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4f27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71c"/>
                </a:solidFill>
                <a:latin typeface="Calibri"/>
              </a:rPr>
              <a:t>Students create grammatically correct sentences by using rules instead of repeating what they have hear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249120" y="268200"/>
            <a:ext cx="8650440" cy="11588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6840" y="1600200"/>
            <a:ext cx="67057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f271c"/>
                </a:solidFill>
                <a:latin typeface="Calibri"/>
              </a:rPr>
              <a:t>Language learning is based on social interaction between learners, teachers, and peers.</a:t>
            </a:r>
            <a:endParaRPr b="0" lang="en-US" sz="27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f271c"/>
                </a:solidFill>
                <a:latin typeface="Calibri"/>
              </a:rPr>
              <a:t>Vygotsky’s Zone of Proximal Development (ZPD)</a:t>
            </a:r>
            <a:endParaRPr b="0" lang="en-US" sz="27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f271c"/>
                </a:solidFill>
                <a:latin typeface="Calibri"/>
              </a:rPr>
              <a:t>Language develops over time due to many instances in interactions.</a:t>
            </a:r>
            <a:endParaRPr b="0" lang="en-US" sz="27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28" name="TextBox 3"/>
          <p:cNvSpPr/>
          <p:nvPr/>
        </p:nvSpPr>
        <p:spPr>
          <a:xfrm>
            <a:off x="914400" y="4419720"/>
            <a:ext cx="4343400" cy="11912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 the classroom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cher must create as many lessons as possible which stress social interaction for L2 speakers with L1 speakers in the communi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4038480"/>
            <a:ext cx="2333880" cy="19656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66"/>
                </a:solidFill>
                <a:latin typeface="Calibri"/>
              </a:rPr>
              <a:t>Interactionist Approach: </a:t>
            </a:r>
            <a:r>
              <a:rPr b="0" lang="en-US" sz="2700" spc="-1" strike="noStrike">
                <a:solidFill>
                  <a:srgbClr val="4f271c"/>
                </a:solidFill>
                <a:latin typeface="Calibri"/>
              </a:rPr>
              <a:t>Social aspects of language acquisition are emphasized and encouraged.</a:t>
            </a:r>
            <a:endParaRPr b="0" lang="en-US" sz="27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66"/>
                </a:solidFill>
                <a:latin typeface="Calibri"/>
              </a:rPr>
              <a:t>HOW?</a:t>
            </a:r>
            <a:endParaRPr b="0" lang="en-US" sz="27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4211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71c"/>
                </a:solidFill>
                <a:latin typeface="Calibri"/>
              </a:rPr>
              <a:t>Speaking Evaluations</a:t>
            </a:r>
            <a:endParaRPr b="0" lang="en-US" sz="24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4211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71c"/>
                </a:solidFill>
                <a:latin typeface="Calibri"/>
              </a:rPr>
              <a:t>Contact America Activities – public interaction</a:t>
            </a:r>
            <a:endParaRPr b="0" lang="en-US" sz="24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4211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71c"/>
                </a:solidFill>
                <a:latin typeface="Calibri"/>
              </a:rPr>
              <a:t>Role play</a:t>
            </a:r>
            <a:endParaRPr b="0" lang="en-US" sz="24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232" name="Picture 2" descr="http://photos-d.ak.fbcdn.net/hphotos-ak-snc1/hs272.snc1/9929_1110910623017_1534414318_30256166_5363565_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5880" y="1828800"/>
            <a:ext cx="2332080" cy="11430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233" name="Picture 4" descr="http://sphotos.ak.fbcdn.net/hphotos-ak-snc1/hs133.snc1/5688_1101804462469_1147435410_30261643_1386027_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00600" y="3581280"/>
            <a:ext cx="4025880" cy="301968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sp>
        <p:nvSpPr>
          <p:cNvPr id="234" name="TextBox 5"/>
          <p:cNvSpPr/>
          <p:nvPr/>
        </p:nvSpPr>
        <p:spPr>
          <a:xfrm>
            <a:off x="6705720" y="312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Y CLASSRO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f271c"/>
                </a:solidFill>
                <a:latin typeface="Calibri"/>
              </a:rPr>
              <a:t>Have students set personal goals for language learning.</a:t>
            </a:r>
            <a:endParaRPr b="0" lang="en-US" sz="25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f271c"/>
                </a:solidFill>
                <a:latin typeface="Calibri"/>
              </a:rPr>
              <a:t>Create a supportive classroom environment to encourage class participation and interaction with fellow students.</a:t>
            </a:r>
            <a:endParaRPr b="0" lang="en-US" sz="25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f271c"/>
                </a:solidFill>
                <a:latin typeface="Calibri"/>
              </a:rPr>
              <a:t>Create lessons that provide opportunities for community involvement.</a:t>
            </a:r>
            <a:endParaRPr b="0" lang="en-US" sz="25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f271c"/>
                </a:solidFill>
                <a:latin typeface="Calibri"/>
              </a:rPr>
              <a:t>Know cultural influences in the classroom.</a:t>
            </a:r>
            <a:endParaRPr b="0" lang="en-US" sz="25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237" name="Picture 2" descr="http://t0.gstatic.com/images?q=tbn:16rAULkI2Zd2ZM:http://booktrustadmin.kentlyons.com/images/image7748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73560" y="2362320"/>
            <a:ext cx="2979720" cy="25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22:29:44Z</dcterms:created>
  <dc:creator>dAivA</dc:creator>
  <dc:description/>
  <dc:language>en-US</dc:language>
  <cp:lastModifiedBy>dAivA</cp:lastModifiedBy>
  <dcterms:modified xsi:type="dcterms:W3CDTF">2010-05-24T03:14:33Z</dcterms:modified>
  <cp:revision>40</cp:revision>
  <dc:subject/>
  <dc:title>Formal Approaches to SLA</dc:title>
</cp:coreProperties>
</file>